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1DB482-DADC-4943-A020-D24312F1AD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d2901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AB7CB3-FC3F-41AB-A6B6-5C043F9A0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9DBF5-FFB4-4D9D-86B2-596005FDEB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2FAE0-B9F5-40DA-B11B-8F6FDDC8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4352C-CDDF-48E5-BAA3-7A9F5AEF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53685-0A80-4435-9524-B7728C8D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B3163-5E36-4C45-8723-6D267578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C927A-28BB-4F6D-854F-FA2D3002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1A0EE-F335-4CA8-9CEB-4F2696C1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3F7A1-25A2-477D-B954-F17BFC26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C6C75-C2A6-494E-B5A8-491175E9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AE143-BC08-41FF-8E0B-E83F00E8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A224E-15B3-44A0-AC02-9EC59C22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C792D-46AB-430A-BC7D-D26ADDA4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0A99E-7351-496C-B038-94208A65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61276-9BA4-4593-BAD5-B4612D5A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16E3D-8372-4E81-9B83-8DFFE3AF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52CF9-C78A-48AC-AFF6-59B2E3BC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63279-D725-4244-A761-7B10B28A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363C1-6EA9-4745-B3B8-6656B4BC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5B12E-0079-4230-8B28-57FAA0B6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43B64-B4E1-41B2-87BC-D0DA4D19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D587E-1C63-4951-A74B-DAE0C188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3FB62-C26A-4793-B7CE-408A9817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1312E-2EC5-4515-8E82-BE1AB305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457A0-FB14-429D-9EF1-B7D6FF41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9218C-C439-4708-A830-F73E2523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387D3-37FC-498E-B8CE-A8DA5EE8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6B183-3E6A-41E8-82DD-7FEB42C3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C90E8-5F9C-4DBF-AEF5-FE1D3433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BD593-6943-4BD1-B94C-895812A1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8B306-D01D-464A-90CA-F2096402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508C6-51C2-4E99-B34F-54FB6D80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D6571-D8EC-4902-BE93-6920B0CB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8BF71-131F-4FAF-B41C-36221536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78586-07B6-40FA-AC2A-DD1CBB36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1146D-1270-475A-A2C3-B196F484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06E44-9BD5-441B-A6BA-EA26138A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105A0-6467-485A-95EE-F2461809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AF3C3-920F-4600-9AB9-1EA5B074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D18AD-562E-49ED-BFC4-9E6F8C9E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1518A-3596-414C-88E0-998BE2DF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21B13-CC0A-4038-85CD-8396684B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D2C02-B908-498B-B3C4-19A4259A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4BF65-B551-4C06-8DAC-AC2F9195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52E2B-1588-462D-B868-11CAED96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5E31C-1A8F-4407-8F02-3AEA4D04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1B1E8-1A9E-47E7-A737-761385E3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D5219-1C69-42EC-8A6D-977154B2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83F13-3B03-4E50-8E17-D66EA036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2DF82-251C-4AC3-83EC-56565C52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697FE-4AA1-4599-86AE-DBF0FA0D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D1B7E-BDAE-46C3-8C75-547F39BC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2BA32-C5C3-4EA1-9885-B915869A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59E29-4A06-4D59-8301-7E66C711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69626-FC59-47D8-90DD-1AAF757B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44880-5A9E-40EC-B80B-CC300D22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02F3A-C0B1-48D1-9985-8CD079FE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769A7-0339-4899-AD3F-24D1547A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188D1-D124-4CF3-9CB6-9C7F0129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129B8-9AD2-4111-AE5F-AA06BD5F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44024-1E3F-49CA-AF0D-88BC3C86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6F634-3234-4195-B9A6-1C4A6F1E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BE546-12D0-4009-A558-53FA4962F167}" type="datetime">
              <a:rPr b="0" lang="en-US" sz="1200" spc="-1" strike="noStrike">
                <a:solidFill>
                  <a:srgbClr val="fefac9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35512-1475-4AB5-AF5E-DFCEFBADE429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d2901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4998960" y="151920"/>
            <a:ext cx="402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Nah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d2901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3AD16-495C-4120-967A-41F16FF2F225}" type="datetime">
              <a:rPr b="0" lang="en-US" sz="1200" spc="-1" strike="noStrike">
                <a:solidFill>
                  <a:srgbClr val="fefac9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9F717-F0EF-4022-9D84-EECC2C931133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5121360" y="151920"/>
            <a:ext cx="40226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Nah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d2901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D5D9E-763C-4FAE-9592-5022C792CE4D}" type="datetime">
              <a:rPr b="0" lang="en-US" sz="1200" spc="-1" strike="noStrike">
                <a:solidFill>
                  <a:srgbClr val="fefac9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121360" y="151920"/>
            <a:ext cx="40226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Nah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176BE-418A-4EEF-B786-4359E6F4A6AA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d2901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A818D7-4561-47F2-B84F-2B29D7532D86}" type="datetime">
              <a:rPr b="0" lang="en-US" sz="1200" spc="-1" strike="noStrike">
                <a:solidFill>
                  <a:srgbClr val="fefac9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62720" y="151920"/>
            <a:ext cx="35812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Nah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C6075-1582-4D93-86AD-473AC5F948FF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d2901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6A10D-35B9-4A9F-85A2-4B76C4433B3C}" type="datetime">
              <a:rPr b="0" lang="en-US" sz="1200" spc="-1" strike="noStrike">
                <a:solidFill>
                  <a:srgbClr val="fefac9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62720" y="151920"/>
            <a:ext cx="35812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Nah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F4EB5-53B6-4917-9BAD-09990E081E3D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5" descr="brown.png"/>
          <p:cNvPicPr/>
          <p:nvPr/>
        </p:nvPicPr>
        <p:blipFill>
          <a:blip r:embed="rId1"/>
          <a:stretch/>
        </p:blipFill>
        <p:spPr>
          <a:xfrm>
            <a:off x="677880" y="496800"/>
            <a:ext cx="7961400" cy="6141960"/>
          </a:xfrm>
          <a:prstGeom prst="rect">
            <a:avLst/>
          </a:prstGeom>
          <a:ln w="0">
            <a:noFill/>
          </a:ln>
        </p:spPr>
      </p:pic>
      <p:grpSp>
        <p:nvGrpSpPr>
          <p:cNvPr id="213" name="Subtitle 54"/>
          <p:cNvGrpSpPr/>
          <p:nvPr/>
        </p:nvGrpSpPr>
        <p:grpSpPr>
          <a:xfrm>
            <a:off x="493560" y="3371760"/>
            <a:ext cx="8315640" cy="1981440"/>
            <a:chOff x="493560" y="3371760"/>
            <a:chExt cx="8315640" cy="1981440"/>
          </a:xfrm>
        </p:grpSpPr>
        <p:pic>
          <p:nvPicPr>
            <p:cNvPr id="214" name="Subtitle 54" descr=""/>
            <p:cNvPicPr/>
            <p:nvPr/>
          </p:nvPicPr>
          <p:blipFill>
            <a:blip r:embed="rId2"/>
            <a:stretch/>
          </p:blipFill>
          <p:spPr>
            <a:xfrm>
              <a:off x="493560" y="3371760"/>
              <a:ext cx="831564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98600" y="3376440"/>
              <a:ext cx="8305560" cy="19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nstantia"/>
                </a:rPr>
                <a:t>The Old Testament: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nstantia"/>
                </a:rPr>
                <a:t>XXXIV. Nahum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6" name="Title 51" descr=""/>
          <p:cNvPicPr/>
          <p:nvPr/>
        </p:nvPicPr>
        <p:blipFill>
          <a:blip r:embed="rId3"/>
          <a:stretch/>
        </p:blipFill>
        <p:spPr>
          <a:xfrm>
            <a:off x="792000" y="1749600"/>
            <a:ext cx="7693200" cy="18475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6"/>
          <p:cNvSpPr/>
          <p:nvPr/>
        </p:nvSpPr>
        <p:spPr>
          <a:xfrm>
            <a:off x="38520" y="206280"/>
            <a:ext cx="44859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nstantia"/>
              </a:rPr>
              <a:t>Global Association of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nstantia"/>
              </a:rPr>
              <a:t>Theological Studi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457200" y="176040"/>
            <a:ext cx="8229600" cy="1238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ShabbyPrincess_Plentiful_Stitching.png"/>
          <p:cNvPicPr/>
          <p:nvPr/>
        </p:nvPicPr>
        <p:blipFill>
          <a:blip r:embed="rId2"/>
          <a:stretch/>
        </p:blipFill>
        <p:spPr>
          <a:xfrm>
            <a:off x="0" y="1292400"/>
            <a:ext cx="9144000" cy="2095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457200" y="1809720"/>
            <a:ext cx="844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Destruction of Nineve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Cruel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Oppre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Idola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Footer Placeholder 8"/>
          <p:cNvSpPr/>
          <p:nvPr/>
        </p:nvSpPr>
        <p:spPr>
          <a:xfrm>
            <a:off x="5121360" y="152280"/>
            <a:ext cx="4022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Nah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Title 1" descr=""/>
          <p:cNvPicPr/>
          <p:nvPr/>
        </p:nvPicPr>
        <p:blipFill>
          <a:blip r:embed="rId3"/>
          <a:stretch/>
        </p:blipFill>
        <p:spPr>
          <a:xfrm>
            <a:off x="457200" y="287172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ShabbyPrincess_Plentiful_Stitching.png"/>
          <p:cNvPicPr/>
          <p:nvPr/>
        </p:nvPicPr>
        <p:blipFill>
          <a:blip r:embed="rId4"/>
          <a:stretch/>
        </p:blipFill>
        <p:spPr>
          <a:xfrm>
            <a:off x="0" y="3992400"/>
            <a:ext cx="9144000" cy="2098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15"/>
          <p:cNvSpPr/>
          <p:nvPr/>
        </p:nvSpPr>
        <p:spPr>
          <a:xfrm>
            <a:off x="457200" y="4510080"/>
            <a:ext cx="844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</a:rPr>
              <a:t>Nah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Early reign of Josi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" descr="nahum_tissot.jpg"/>
          <p:cNvPicPr/>
          <p:nvPr/>
        </p:nvPicPr>
        <p:blipFill>
          <a:blip r:embed="rId5"/>
          <a:stretch/>
        </p:blipFill>
        <p:spPr>
          <a:xfrm>
            <a:off x="5486400" y="950760"/>
            <a:ext cx="2749680" cy="543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38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ShabbyPrincess_Plentiful_Stitching.png"/>
          <p:cNvPicPr/>
          <p:nvPr/>
        </p:nvPicPr>
        <p:blipFill>
          <a:blip r:embed="rId2"/>
          <a:stretch/>
        </p:blipFill>
        <p:spPr>
          <a:xfrm>
            <a:off x="0" y="1266840"/>
            <a:ext cx="9144000" cy="209520"/>
          </a:xfrm>
          <a:prstGeom prst="rect">
            <a:avLst/>
          </a:prstGeom>
          <a:ln w="0">
            <a:noFill/>
          </a:ln>
        </p:spPr>
      </p:pic>
      <p:sp>
        <p:nvSpPr>
          <p:cNvPr id="228" name="Footer Placeholder 8"/>
          <p:cNvSpPr/>
          <p:nvPr/>
        </p:nvSpPr>
        <p:spPr>
          <a:xfrm>
            <a:off x="5121360" y="152280"/>
            <a:ext cx="4022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Nah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457200" y="176688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Nineveh – capital of Assyri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Either subject or in conflict with Babyl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Founded by Nimr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Cruel to cap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“</a:t>
            </a:r>
            <a:r>
              <a:rPr b="1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Queen of the Earth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Built by ensla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      </a:t>
            </a: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cap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30 miles long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4572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10 miles w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2" descr="nineveh2a.jpg"/>
          <p:cNvPicPr/>
          <p:nvPr/>
        </p:nvPicPr>
        <p:blipFill>
          <a:blip r:embed="rId3"/>
          <a:stretch/>
        </p:blipFill>
        <p:spPr>
          <a:xfrm>
            <a:off x="4581360" y="2790720"/>
            <a:ext cx="4246560" cy="354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38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ShabbyPrincess_Plentiful_Stitching.png"/>
          <p:cNvPicPr/>
          <p:nvPr/>
        </p:nvPicPr>
        <p:blipFill>
          <a:blip r:embed="rId2"/>
          <a:stretch/>
        </p:blipFill>
        <p:spPr>
          <a:xfrm>
            <a:off x="0" y="1266840"/>
            <a:ext cx="9144000" cy="209520"/>
          </a:xfrm>
          <a:prstGeom prst="rect">
            <a:avLst/>
          </a:prstGeom>
          <a:ln w="0">
            <a:noFill/>
          </a:ln>
        </p:spPr>
      </p:pic>
      <p:sp>
        <p:nvSpPr>
          <p:cNvPr id="233" name="Footer Placeholder 8"/>
          <p:cNvSpPr/>
          <p:nvPr/>
        </p:nvSpPr>
        <p:spPr>
          <a:xfrm>
            <a:off x="5121360" y="152280"/>
            <a:ext cx="4022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Nah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457200" y="176688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457200">
              <a:lnSpc>
                <a:spcPct val="100000"/>
              </a:lnSpc>
              <a:buClr>
                <a:srgbClr val="2d2901"/>
              </a:buClr>
              <a:buFont typeface="Constanti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Jehovah, the Righteous Judge (Chapter 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Burden of Nineve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Judgment on His advers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d2901"/>
              </a:buClr>
              <a:buFont typeface="Constantia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2d2901"/>
                </a:solidFill>
                <a:latin typeface="Constantia"/>
              </a:rPr>
              <a:t>Jehovah’s Righteous Judgments (Chapters 2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</a:rPr>
              <a:t>Destruction was cert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List of s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2" descr="battering_nineveh.jpg"/>
          <p:cNvPicPr/>
          <p:nvPr/>
        </p:nvPicPr>
        <p:blipFill>
          <a:blip r:embed="rId3"/>
          <a:stretch/>
        </p:blipFill>
        <p:spPr>
          <a:xfrm>
            <a:off x="5389560" y="3297240"/>
            <a:ext cx="2657520" cy="337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384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ShabbyPrincess_Plentiful_Stitching.png"/>
          <p:cNvPicPr/>
          <p:nvPr/>
        </p:nvPicPr>
        <p:blipFill>
          <a:blip r:embed="rId2"/>
          <a:stretch/>
        </p:blipFill>
        <p:spPr>
          <a:xfrm>
            <a:off x="0" y="1266840"/>
            <a:ext cx="9144000" cy="209520"/>
          </a:xfrm>
          <a:prstGeom prst="rect">
            <a:avLst/>
          </a:prstGeom>
          <a:ln w="0">
            <a:noFill/>
          </a:ln>
        </p:spPr>
      </p:pic>
      <p:sp>
        <p:nvSpPr>
          <p:cNvPr id="238" name="Footer Placeholder 8"/>
          <p:cNvSpPr/>
          <p:nvPr/>
        </p:nvSpPr>
        <p:spPr>
          <a:xfrm>
            <a:off x="5121360" y="152280"/>
            <a:ext cx="4022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Nah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457200" y="176688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Lesson concerning God’s mercy and judg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8584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Not to be treated light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28584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22:18:05Z</dcterms:created>
  <dc:creator>Kaylin Shirley</dc:creator>
  <dc:description/>
  <dc:language>en-US</dc:language>
  <cp:lastModifiedBy>Kaylin Shirley</cp:lastModifiedBy>
  <dcterms:modified xsi:type="dcterms:W3CDTF">2011-04-13T20:05:20Z</dcterms:modified>
  <cp:revision>295</cp:revision>
  <dc:subject/>
  <dc:title>Bible Survey II</dc:title>
</cp:coreProperties>
</file>