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6D774D-6733-424B-BA28-433B9F0445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d2901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F8C14B-CFBE-4B0B-A0B2-889E87D9BA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C8E63C-8ED5-4EFE-AFBF-DE4827D9BA6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5B8F8-56C8-4661-A847-165AE1F7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0DA4C-CDCA-4FAA-9396-3DABA390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E0ED2-4AD6-424F-9F4C-A67DD3520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0E06D-A6A2-4F6C-87F3-49D7C784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5935C-9423-4DCA-B612-F93922E9E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B1B4B-FD05-4536-82FE-3B7F9FA3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4B46F-5AC6-4D51-926F-043DFF69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FAE80-E795-4815-81EC-60F25184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ED184-7D24-419F-8D46-963E0464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CB8C6-F927-457F-9487-BDD03952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BC90F-DC7B-4489-96A8-A2A7CB28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20573-95EE-482A-83C0-770A8B07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A5BBD-022E-4E35-AE54-EA4E2ED5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FDB29-B020-4E72-B493-D557CE7B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37ED9-901F-45C8-8E1D-136D4375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31D07-9086-47A4-B835-DDC8D3234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F151D-DB51-4A18-8734-E17FAC06E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6F3BB-0123-4B6A-9DB7-1DAC44D7A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CF542-39C7-41E6-B79E-8490C3C4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E528B-444F-45E2-B639-930C3B9B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D1BF5-2B65-441E-834E-D51ED80E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A1EF7-DF86-48BD-B53F-68A84D96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57D6C-7CA2-4785-B545-067C2A2E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4CC7B-16A2-42AC-A746-37CD56E9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54679-2DEE-46DB-B27E-79656151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99E52-B00F-437C-A685-93FB21A6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B4BA0-A526-4261-8FCE-C65906F4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AB87F-9511-4037-B1E2-6F55ED25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C821B-0AE7-4BBE-AA5D-D285358C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38854-A3AA-4501-B3B9-9F4F2C633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8EBFC-AAF7-4940-8664-316D33633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0708B-58E3-4DFA-A5B1-860D7357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BA9D8-3503-42E8-BAA2-EB057F4E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0524F-C570-487E-BF71-155FB80B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768D3-3D43-4A6D-8991-38E9183A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2DAE5-B63D-4ACA-9FF5-B23AA78E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E9946-1CDB-49A4-8CC2-C08DAAA5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4A8B7-1CF6-483E-B6D4-30FAF4B5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88E79-7839-44A2-86D8-8686CC85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555DC-5E7B-404B-8D13-1EE9B536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9EA0B-AAA1-40E5-BA31-938DEA73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AC25D-EA19-40BD-9126-871B3964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2060D-3FF0-40C7-A382-867DB147B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3E880-CA1F-43EA-9826-5EB51B04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192B9-C9EB-4056-851C-F4D02CAF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C17B8-3961-4452-9F0A-8A5BE6DB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0B3F2-7B99-4DFD-9E9F-3C343649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D27C2-766D-495C-9D48-F3F06A27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94A8C-FA5A-4EBD-A803-09E4ECB8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85446-4247-4507-9005-206214AF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702EF-00FB-43C0-87D1-55BB046A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857AC-89CE-478B-B9A8-1ED0DC5A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74609-301B-4461-B45D-BE33FDEA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105BE-63F6-449B-A23B-E626E341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CB5CA-4BE3-4480-9A85-197897E1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005EF-8154-4BAE-8DC3-90AE2CA4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38E2C-F94F-40C0-A277-4DAB28AD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C1F7A-0225-42EA-A084-958E37B8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BC740-EC65-40D8-8C98-5BAA6051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EFE71-5038-468D-8516-2C24F28D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C41777-3C51-44B3-82CD-B9EA2761599E}" type="datetime">
              <a:rPr b="0" lang="en-US" sz="1200" spc="-1" strike="noStrike">
                <a:solidFill>
                  <a:srgbClr val="fefac9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A61FD7-1A8C-4855-88FB-5D3561B1A237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d2901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4998960" y="151920"/>
            <a:ext cx="402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Bible Survey II: Zephani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d2901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36B701-0E31-4B16-B1F0-6BDC6EE0463C}" type="datetime">
              <a:rPr b="0" lang="en-US" sz="1200" spc="-1" strike="noStrike">
                <a:solidFill>
                  <a:srgbClr val="fefac9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FC427E-1D59-4846-893E-9E1FA13C69EC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5121360" y="151920"/>
            <a:ext cx="40226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Bible Survey II: Zephani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d2901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B40358-7E40-4D80-AE4D-C12EB97E1E57}" type="datetime">
              <a:rPr b="0" lang="en-US" sz="1200" spc="-1" strike="noStrike">
                <a:solidFill>
                  <a:srgbClr val="fefac9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5121360" y="151920"/>
            <a:ext cx="40226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Bible Survey II: Zephani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7E14AF-0E23-4FB7-B3D1-DCF5FC426B66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d2901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EE6B06-B3D9-4394-9565-CA48119F7AB0}" type="datetime">
              <a:rPr b="0" lang="en-US" sz="1200" spc="-1" strike="noStrike">
                <a:solidFill>
                  <a:srgbClr val="fefac9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5562720" y="151920"/>
            <a:ext cx="35812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Bible Survey II: Zephani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F47765-9CB7-40DC-9A80-4C71355EA472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d2901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3E7F54-E500-465E-829E-A720D5EA6EB2}" type="datetime">
              <a:rPr b="0" lang="en-US" sz="1200" spc="-1" strike="noStrike">
                <a:solidFill>
                  <a:srgbClr val="fefac9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5562720" y="151920"/>
            <a:ext cx="35812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Bible Survey II: Zephani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97E226-3F7A-4302-8554-EC3928B1BB34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5" descr="brown.png"/>
          <p:cNvPicPr/>
          <p:nvPr/>
        </p:nvPicPr>
        <p:blipFill>
          <a:blip r:embed="rId1"/>
          <a:stretch/>
        </p:blipFill>
        <p:spPr>
          <a:xfrm>
            <a:off x="677880" y="496800"/>
            <a:ext cx="7961400" cy="6141960"/>
          </a:xfrm>
          <a:prstGeom prst="rect">
            <a:avLst/>
          </a:prstGeom>
          <a:ln w="0">
            <a:noFill/>
          </a:ln>
        </p:spPr>
      </p:pic>
      <p:grpSp>
        <p:nvGrpSpPr>
          <p:cNvPr id="213" name="Subtitle 54"/>
          <p:cNvGrpSpPr/>
          <p:nvPr/>
        </p:nvGrpSpPr>
        <p:grpSpPr>
          <a:xfrm>
            <a:off x="493560" y="3371760"/>
            <a:ext cx="8315640" cy="1981440"/>
            <a:chOff x="493560" y="3371760"/>
            <a:chExt cx="8315640" cy="1981440"/>
          </a:xfrm>
        </p:grpSpPr>
        <p:pic>
          <p:nvPicPr>
            <p:cNvPr id="214" name="Subtitle 54" descr=""/>
            <p:cNvPicPr/>
            <p:nvPr/>
          </p:nvPicPr>
          <p:blipFill>
            <a:blip r:embed="rId2"/>
            <a:stretch/>
          </p:blipFill>
          <p:spPr>
            <a:xfrm>
              <a:off x="493560" y="3371760"/>
              <a:ext cx="831564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498600" y="3376440"/>
              <a:ext cx="8305560" cy="19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nstantia"/>
                </a:rPr>
                <a:t>The Old Testament: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nstantia"/>
                </a:rPr>
                <a:t>XXXVI. Zephania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6" name="Title 51" descr=""/>
          <p:cNvPicPr/>
          <p:nvPr/>
        </p:nvPicPr>
        <p:blipFill>
          <a:blip r:embed="rId3"/>
          <a:stretch/>
        </p:blipFill>
        <p:spPr>
          <a:xfrm>
            <a:off x="792000" y="1749600"/>
            <a:ext cx="7693200" cy="1847520"/>
          </a:xfrm>
          <a:prstGeom prst="rect">
            <a:avLst/>
          </a:prstGeom>
          <a:ln w="0">
            <a:noFill/>
          </a:ln>
        </p:spPr>
      </p:pic>
      <p:sp>
        <p:nvSpPr>
          <p:cNvPr id="217" name="TextBox 6"/>
          <p:cNvSpPr/>
          <p:nvPr/>
        </p:nvSpPr>
        <p:spPr>
          <a:xfrm>
            <a:off x="38520" y="206280"/>
            <a:ext cx="44859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nstantia"/>
              </a:rPr>
              <a:t>Global Association of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nstantia"/>
              </a:rPr>
              <a:t>Theological Studi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Title 1" descr=""/>
          <p:cNvPicPr/>
          <p:nvPr/>
        </p:nvPicPr>
        <p:blipFill>
          <a:blip r:embed="rId1"/>
          <a:stretch/>
        </p:blipFill>
        <p:spPr>
          <a:xfrm>
            <a:off x="457200" y="176040"/>
            <a:ext cx="8229600" cy="1238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ShabbyPrincess_Plentiful_Stitching.png"/>
          <p:cNvPicPr/>
          <p:nvPr/>
        </p:nvPicPr>
        <p:blipFill>
          <a:blip r:embed="rId2"/>
          <a:stretch/>
        </p:blipFill>
        <p:spPr>
          <a:xfrm>
            <a:off x="0" y="1292400"/>
            <a:ext cx="9144000" cy="2095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5"/>
          <p:cNvSpPr/>
          <p:nvPr/>
        </p:nvSpPr>
        <p:spPr>
          <a:xfrm>
            <a:off x="457200" y="1809720"/>
            <a:ext cx="373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45720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Great Day of the L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45720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Footer Placeholder 8"/>
          <p:cNvSpPr/>
          <p:nvPr/>
        </p:nvSpPr>
        <p:spPr>
          <a:xfrm>
            <a:off x="5121360" y="152280"/>
            <a:ext cx="40226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Bible Survey II: Zephani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Title 1" descr=""/>
          <p:cNvPicPr/>
          <p:nvPr/>
        </p:nvPicPr>
        <p:blipFill>
          <a:blip r:embed="rId3"/>
          <a:stretch/>
        </p:blipFill>
        <p:spPr>
          <a:xfrm>
            <a:off x="457200" y="287172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ShabbyPrincess_Plentiful_Stitching.png"/>
          <p:cNvPicPr/>
          <p:nvPr/>
        </p:nvPicPr>
        <p:blipFill>
          <a:blip r:embed="rId4"/>
          <a:stretch/>
        </p:blipFill>
        <p:spPr>
          <a:xfrm>
            <a:off x="0" y="3992400"/>
            <a:ext cx="9144000" cy="209880"/>
          </a:xfrm>
          <a:prstGeom prst="rect">
            <a:avLst/>
          </a:prstGeom>
          <a:ln w="0">
            <a:noFill/>
          </a:ln>
        </p:spPr>
      </p:pic>
      <p:sp>
        <p:nvSpPr>
          <p:cNvPr id="224" name="TextBox 15"/>
          <p:cNvSpPr/>
          <p:nvPr/>
        </p:nvSpPr>
        <p:spPr>
          <a:xfrm>
            <a:off x="457200" y="4510080"/>
            <a:ext cx="844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</a:rPr>
              <a:t>Zephani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Direct descendent of King Hezeki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Prophesied during the reign of Josi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2" descr="prophet_1.jpg"/>
          <p:cNvPicPr/>
          <p:nvPr/>
        </p:nvPicPr>
        <p:blipFill>
          <a:blip r:embed="rId5"/>
          <a:stretch/>
        </p:blipFill>
        <p:spPr>
          <a:xfrm>
            <a:off x="4078440" y="781200"/>
            <a:ext cx="4932360" cy="3754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38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ShabbyPrincess_Plentiful_Stitching.png"/>
          <p:cNvPicPr/>
          <p:nvPr/>
        </p:nvPicPr>
        <p:blipFill>
          <a:blip r:embed="rId2"/>
          <a:stretch/>
        </p:blipFill>
        <p:spPr>
          <a:xfrm>
            <a:off x="0" y="1266840"/>
            <a:ext cx="9144000" cy="209520"/>
          </a:xfrm>
          <a:prstGeom prst="rect">
            <a:avLst/>
          </a:prstGeom>
          <a:ln w="0">
            <a:noFill/>
          </a:ln>
        </p:spPr>
      </p:pic>
      <p:sp>
        <p:nvSpPr>
          <p:cNvPr id="228" name="Footer Placeholder 8"/>
          <p:cNvSpPr/>
          <p:nvPr/>
        </p:nvSpPr>
        <p:spPr>
          <a:xfrm>
            <a:off x="5121360" y="152280"/>
            <a:ext cx="40226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Bible Survey II: Zephani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457200" y="1766880"/>
            <a:ext cx="8229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457200">
              <a:lnSpc>
                <a:spcPct val="100000"/>
              </a:lnSpc>
              <a:buClr>
                <a:srgbClr val="2d2901"/>
              </a:buClr>
              <a:buFont typeface="Constanti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A Warning of Judgment (Chapter 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5720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God’s severe judg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5720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Overthrow of idola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5720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57200">
              <a:lnSpc>
                <a:spcPct val="100000"/>
              </a:lnSpc>
              <a:buClr>
                <a:srgbClr val="2d2901"/>
              </a:buClr>
              <a:buFont typeface="Constantia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A Call to Repentance (Chapter 2:1-3: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5720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Warned the wicked to rep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5720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Certainty of judgments on surrounding n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45720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Fulfilled within 20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38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ShabbyPrincess_Plentiful_Stitching.png"/>
          <p:cNvPicPr/>
          <p:nvPr/>
        </p:nvPicPr>
        <p:blipFill>
          <a:blip r:embed="rId2"/>
          <a:stretch/>
        </p:blipFill>
        <p:spPr>
          <a:xfrm>
            <a:off x="0" y="1266840"/>
            <a:ext cx="9144000" cy="209520"/>
          </a:xfrm>
          <a:prstGeom prst="rect">
            <a:avLst/>
          </a:prstGeom>
          <a:ln w="0">
            <a:noFill/>
          </a:ln>
        </p:spPr>
      </p:pic>
      <p:sp>
        <p:nvSpPr>
          <p:cNvPr id="232" name="Footer Placeholder 8"/>
          <p:cNvSpPr/>
          <p:nvPr/>
        </p:nvSpPr>
        <p:spPr>
          <a:xfrm>
            <a:off x="5121360" y="152280"/>
            <a:ext cx="40226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Bible Survey II: Zephani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457200" y="17668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457200">
              <a:lnSpc>
                <a:spcPct val="100000"/>
              </a:lnSpc>
              <a:buClr>
                <a:srgbClr val="2d2901"/>
              </a:buClr>
              <a:buFont typeface="Constantia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A Promise of Restoration (3:8-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5720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Judgment followed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45720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conver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45720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Institution of worship of Jehov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2" descr="worship_bible.jpg"/>
          <p:cNvPicPr/>
          <p:nvPr/>
        </p:nvPicPr>
        <p:blipFill>
          <a:blip r:embed="rId3"/>
          <a:stretch/>
        </p:blipFill>
        <p:spPr>
          <a:xfrm>
            <a:off x="2335320" y="3462480"/>
            <a:ext cx="4248000" cy="324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384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ShabbyPrincess_Plentiful_Stitching.png"/>
          <p:cNvPicPr/>
          <p:nvPr/>
        </p:nvPicPr>
        <p:blipFill>
          <a:blip r:embed="rId2"/>
          <a:stretch/>
        </p:blipFill>
        <p:spPr>
          <a:xfrm>
            <a:off x="0" y="1266840"/>
            <a:ext cx="9144000" cy="209520"/>
          </a:xfrm>
          <a:prstGeom prst="rect">
            <a:avLst/>
          </a:prstGeom>
          <a:ln w="0">
            <a:noFill/>
          </a:ln>
        </p:spPr>
      </p:pic>
      <p:sp>
        <p:nvSpPr>
          <p:cNvPr id="237" name="Footer Placeholder 8"/>
          <p:cNvSpPr/>
          <p:nvPr/>
        </p:nvSpPr>
        <p:spPr>
          <a:xfrm>
            <a:off x="5121360" y="152280"/>
            <a:ext cx="40226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Bible Survey II: Zephani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Box 6"/>
          <p:cNvSpPr/>
          <p:nvPr/>
        </p:nvSpPr>
        <p:spPr>
          <a:xfrm>
            <a:off x="457200" y="176688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God wil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Purge self-righteous pr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Lift His chastening h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Bless the remn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Punish Israel’s enem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Dwell in the midst of restored 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3T22:18:05Z</dcterms:created>
  <dc:creator>Kaylin Shirley</dc:creator>
  <dc:description/>
  <dc:language>en-US</dc:language>
  <cp:lastModifiedBy>Kaylin Shirley</cp:lastModifiedBy>
  <dcterms:modified xsi:type="dcterms:W3CDTF">2011-04-13T20:17:29Z</dcterms:modified>
  <cp:revision>300</cp:revision>
  <dc:subject/>
  <dc:title>Bible Survey II</dc:title>
</cp:coreProperties>
</file>