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4DD50-B8B3-4B0C-8F50-16C390AFCA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49268-5242-41D1-BCB4-25717EC88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28954-16FE-48A7-8B05-4A739049CF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3B0F-87DE-4A02-9F04-471677C2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AE35-A550-421D-AB0E-9080A8D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9581D-9659-45CD-B5C5-A59F8DE8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2894-5B0A-477A-9B12-842218BC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761B5-D5FB-413D-B233-0CEE9C62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76526-0ECC-4D7B-949B-167EB69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F3C9C-7FC9-42C5-B134-5706DEE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99FD7-6A28-4B3E-941B-30CF0224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9BCDB-F86F-492A-BAAC-3695948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3A9E2-CBE0-4332-9ED5-A4E5E74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E29B-FFB0-44B6-B58E-6105DCB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F609-3AF5-4D9C-B3D0-39EC89D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DCD3-CDF2-4961-BA77-DC474EB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31E01-0CDF-4188-8E30-CC9E327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4D0F0-40A7-4B6F-BD1A-BB88F66E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1F47E-45C2-421A-98EA-7AA88573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1952F-F2FC-437F-B6E5-0EB4EC2B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C7B6-A75B-4147-B534-C7F7CCD8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0695-D66E-4378-AD05-F7813B52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1A40-6AAB-4DCA-8EAC-FB0AF044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3A96-EBFD-4416-A4A7-12FB645E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1786E-B39F-4081-8B2A-4CAEB606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A8BF-53B6-43CF-B4CE-269899D6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0B49-A5A5-46E8-BCE2-231818BA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EFDF-5F6A-44DD-B945-8DD17B5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9FB2-2D01-4BA4-9640-8389644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3B73-935E-4306-B841-17B799D1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6E2E-BB43-46AA-ABC6-3F64D232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AA5F-8D29-46EA-8678-52813B4E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5FC2-7A8E-45F2-B2C2-694C8A9E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7DAB9-29D3-4BCE-AB79-7B42EBA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D89B-0E10-458D-B1A5-47026915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23BB-69E3-40D0-89F6-4AAE3FA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F795-B357-4408-9D11-40EEEFC3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97E5-B4C2-44BC-929F-77404FB9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FD10-A2E9-4102-91BC-00D7FDA6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62C0-D89F-4B87-829B-0E47D9BB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1176-9C60-4E4C-815B-7BEF2D5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6AFF-FAA9-41EF-A410-3B4E71A8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57E7C-7E1C-4132-9813-A3FC36E3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8788-DFD0-4D8C-823C-6604C80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57AE5-A565-4BCC-8C3E-6DE7AC07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7C7D1-14AF-4698-A075-DF7314C5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6B8A-15CD-4A9C-93B2-C2E9112B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C0A2-FFB4-4917-9CB8-6A3CF345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AF52C-4932-4D14-8163-63F0A3CA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23E96-D8D5-455A-B9FE-53AC089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E3D6-9ABF-4C6C-9A5B-06706A5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B944-4874-4196-A6B8-8E2EA96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D966-1778-45F2-ACF7-D3C7D6E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5164-DE9C-4AD8-A17F-AFBEC087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3260C-5286-4082-901C-17783AB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5223-0F0A-403E-9A8C-C545BE43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0C981-490C-48D4-AC84-B80BE21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F9AD1-6EFC-4F71-9BF2-29109D32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1E82-1952-42B2-8113-55BB8445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02CE-4C1B-4BD2-9FF5-EB395C53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376F-0369-4055-8E6C-EBB0558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9121-69CD-4A31-8E50-04D4A445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93E6-3C5E-4EF1-B9B6-B1FA3A86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52AC9-4E5F-41CD-B459-9A682557DD2C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64446-320D-4761-83E3-F0873E27B6C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998960" y="151920"/>
            <a:ext cx="402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1C50D-4787-417B-AC5B-B5F26D99FEAC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8085B-CE89-41FE-918B-570E754EAEA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146CC-5279-4B34-A7BE-ADD7F401C96F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21360" y="151920"/>
            <a:ext cx="40226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F63CE-32FB-4A66-9CD0-5EC34E8EEFE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53CA3-2D3F-4A8B-94B8-B2CBFCFB4443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19B92-3F7A-40D8-93AB-BF5F0B542B9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290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d2901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2d2901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16A8C-E074-47C4-85E4-07C74A4973D0}" type="datetime">
              <a:rPr b="0" lang="en-US" sz="1200" spc="-1" strike="noStrike">
                <a:solidFill>
                  <a:srgbClr val="fefac9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62720" y="151920"/>
            <a:ext cx="3581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EA654-13EF-4929-A6CD-57B625C0F8E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5" descr="brown.png"/>
          <p:cNvPicPr/>
          <p:nvPr/>
        </p:nvPicPr>
        <p:blipFill>
          <a:blip r:embed="rId1"/>
          <a:stretch/>
        </p:blipFill>
        <p:spPr>
          <a:xfrm>
            <a:off x="677880" y="496800"/>
            <a:ext cx="7961400" cy="6141960"/>
          </a:xfrm>
          <a:prstGeom prst="rect">
            <a:avLst/>
          </a:prstGeom>
          <a:ln w="0">
            <a:noFill/>
          </a:ln>
        </p:spPr>
      </p:pic>
      <p:grpSp>
        <p:nvGrpSpPr>
          <p:cNvPr id="213" name="Subtitle 54"/>
          <p:cNvGrpSpPr/>
          <p:nvPr/>
        </p:nvGrpSpPr>
        <p:grpSpPr>
          <a:xfrm>
            <a:off x="493560" y="3371760"/>
            <a:ext cx="8315640" cy="1981440"/>
            <a:chOff x="493560" y="3371760"/>
            <a:chExt cx="8315640" cy="1981440"/>
          </a:xfrm>
        </p:grpSpPr>
        <p:pic>
          <p:nvPicPr>
            <p:cNvPr id="214" name="Subtitle 54" descr=""/>
            <p:cNvPicPr/>
            <p:nvPr/>
          </p:nvPicPr>
          <p:blipFill>
            <a:blip r:embed="rId2"/>
            <a:stretch/>
          </p:blipFill>
          <p:spPr>
            <a:xfrm>
              <a:off x="493560" y="3371760"/>
              <a:ext cx="831564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98600" y="3376440"/>
              <a:ext cx="8305560" cy="19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nstantia"/>
                </a:rPr>
                <a:t>The Old Testament: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nstantia"/>
                </a:rPr>
                <a:t>XXXII. Jonah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6" name="Title 51" descr=""/>
          <p:cNvPicPr/>
          <p:nvPr/>
        </p:nvPicPr>
        <p:blipFill>
          <a:blip r:embed="rId3"/>
          <a:stretch/>
        </p:blipFill>
        <p:spPr>
          <a:xfrm>
            <a:off x="792000" y="1749600"/>
            <a:ext cx="7693200" cy="18475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38520" y="206280"/>
            <a:ext cx="44859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Global Association of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Theological Stud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9240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57200" y="1809720"/>
            <a:ext cx="84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od’s mercy to Nineveh and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Title 1" descr=""/>
          <p:cNvPicPr/>
          <p:nvPr/>
        </p:nvPicPr>
        <p:blipFill>
          <a:blip r:embed="rId3"/>
          <a:stretch/>
        </p:blipFill>
        <p:spPr>
          <a:xfrm>
            <a:off x="457200" y="241920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ShabbyPrincess_Plentiful_Stitching.png"/>
          <p:cNvPicPr/>
          <p:nvPr/>
        </p:nvPicPr>
        <p:blipFill>
          <a:blip r:embed="rId4"/>
          <a:stretch/>
        </p:blipFill>
        <p:spPr>
          <a:xfrm>
            <a:off x="0" y="354168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5"/>
          <p:cNvSpPr/>
          <p:nvPr/>
        </p:nvSpPr>
        <p:spPr>
          <a:xfrm>
            <a:off x="457200" y="4059360"/>
            <a:ext cx="84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</a:rPr>
              <a:t>Nineve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Capital of Assy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Known for crue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250px-Jonah-Nineveh.jpg"/>
          <p:cNvPicPr/>
          <p:nvPr/>
        </p:nvPicPr>
        <p:blipFill>
          <a:blip r:embed="rId5"/>
          <a:stretch/>
        </p:blipFill>
        <p:spPr>
          <a:xfrm>
            <a:off x="4457880" y="2422440"/>
            <a:ext cx="324468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457200" y="1766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34272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alil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Ministered to the 10 t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Prophes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After Elisha’s min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Jonah_shore.jpg"/>
          <p:cNvPicPr/>
          <p:nvPr/>
        </p:nvPicPr>
        <p:blipFill>
          <a:blip r:embed="rId3"/>
          <a:stretch/>
        </p:blipFill>
        <p:spPr>
          <a:xfrm>
            <a:off x="5514840" y="2205000"/>
            <a:ext cx="2934000" cy="37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457200" y="1766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Constant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’s First Commission, His Disobedience, and the results (Chapters 1,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 commissioned to preach to Ninev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Disobedi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Boarded a ship for Tarsh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5720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Jonah_and_the_whale.jpg"/>
          <p:cNvPicPr/>
          <p:nvPr/>
        </p:nvPicPr>
        <p:blipFill>
          <a:blip r:embed="rId3"/>
          <a:stretch/>
        </p:blipFill>
        <p:spPr>
          <a:xfrm>
            <a:off x="2757600" y="3745080"/>
            <a:ext cx="4037040" cy="28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457200" y="176688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34272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St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 thrown over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Swallowed by great 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 repented of hi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Spewed unto dry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34308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Bible and Jonah.jpg"/>
          <p:cNvPicPr/>
          <p:nvPr/>
        </p:nvPicPr>
        <p:blipFill>
          <a:blip r:embed="rId3"/>
          <a:stretch/>
        </p:blipFill>
        <p:spPr>
          <a:xfrm>
            <a:off x="5711760" y="2530440"/>
            <a:ext cx="2968560" cy="3571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jonah.jpg"/>
          <p:cNvPicPr/>
          <p:nvPr/>
        </p:nvPicPr>
        <p:blipFill>
          <a:blip r:embed="rId4"/>
          <a:stretch/>
        </p:blipFill>
        <p:spPr>
          <a:xfrm>
            <a:off x="3625920" y="3703680"/>
            <a:ext cx="1954080" cy="274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44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457200" y="17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2. Jonah’s Second Commission, His Obedience, and Its Results (Chapter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o unto Nineveh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 went and preac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Ninevites rep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JonahPreachingatNineveh.jpg"/>
          <p:cNvPicPr/>
          <p:nvPr/>
        </p:nvPicPr>
        <p:blipFill>
          <a:blip r:embed="rId3"/>
          <a:stretch/>
        </p:blipFill>
        <p:spPr>
          <a:xfrm>
            <a:off x="5121360" y="2409840"/>
            <a:ext cx="3176640" cy="38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38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ShabbyPrincess_Plentiful_Stitching.png"/>
          <p:cNvPicPr/>
          <p:nvPr/>
        </p:nvPicPr>
        <p:blipFill>
          <a:blip r:embed="rId2"/>
          <a:stretch/>
        </p:blipFill>
        <p:spPr>
          <a:xfrm>
            <a:off x="0" y="126684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49" name="Footer Placeholder 8"/>
          <p:cNvSpPr/>
          <p:nvPr/>
        </p:nvSpPr>
        <p:spPr>
          <a:xfrm>
            <a:off x="5121360" y="152280"/>
            <a:ext cx="40226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ible Survey II: 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57200" y="1766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3. Jonah’s complaint and God’s Answer(Chapter 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Jonah secretly hoped the Ninevites would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God rebuked him g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Title 1" descr=""/>
          <p:cNvPicPr/>
          <p:nvPr/>
        </p:nvPicPr>
        <p:blipFill>
          <a:blip r:embed="rId3"/>
          <a:stretch/>
        </p:blipFill>
        <p:spPr>
          <a:xfrm>
            <a:off x="457200" y="287172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ShabbyPrincess_Plentiful_Stitching.png"/>
          <p:cNvPicPr/>
          <p:nvPr/>
        </p:nvPicPr>
        <p:blipFill>
          <a:blip r:embed="rId4"/>
          <a:stretch/>
        </p:blipFill>
        <p:spPr>
          <a:xfrm>
            <a:off x="0" y="3990960"/>
            <a:ext cx="9144000" cy="209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457200" y="4295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8560" indent="-342720">
              <a:lnSpc>
                <a:spcPct val="100000"/>
              </a:lnSpc>
              <a:buClr>
                <a:srgbClr val="2d2901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2d2901"/>
                </a:solidFill>
                <a:latin typeface="Constantia"/>
                <a:ea typeface="ＭＳ Ｐゴシック"/>
              </a:rPr>
              <a:t>The importance of obedience to the will of G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2:18:05Z</dcterms:created>
  <dc:creator>Kaylin Shirley</dc:creator>
  <dc:description/>
  <dc:language>en-US</dc:language>
  <cp:lastModifiedBy>Kaylin Shirley</cp:lastModifiedBy>
  <dcterms:modified xsi:type="dcterms:W3CDTF">2011-04-12T21:18:10Z</dcterms:modified>
  <cp:revision>286</cp:revision>
  <dc:subject/>
  <dc:title>Bible Survey II</dc:title>
</cp:coreProperties>
</file>